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4483-E2C5-4B7C-B392-51D29B548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C036-C175-4728-8081-184778C1A91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802D-1D54-4D86-8077-166EBC15B7B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A234-3CCE-49D9-85B2-E5C73756A6E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F683-BDB4-465B-A991-7098BCA14B9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s – some tags are empty tags, meaning they do not have a closing tag, they only have an opening ta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596B-99CA-4E14-894F-4E315142C11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C148-1CEF-49D9-B9EB-ABC46FC15FB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tags should be closed in the opening tag by placing a space and forward slash before the closing angle bracket. Example:  &lt;br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empty tags:  &lt;br&gt;, &lt;hr&gt;, &lt;img&gt;, &lt;met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AAAD-EA22-4744-ADC6-3E03154F001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D0EC-27FE-48F6-8FE8-DC56D9B3DD6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5DB9-FD58-4D39-A608-9C3E1BA7CD5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DE8-7299-496D-9915-9C5F179A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1CB-5BDB-4F9B-8F0D-059258FC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F05-F5B2-45C9-98AF-B905C2FB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3CA1-E053-4130-BDE7-0CE4043A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D2D6-FF90-49A3-B6C2-7D6EBABC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49E5-D42D-49D3-AD67-D8E063C6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C9B4-6DEF-417E-9352-EAF41DEE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2F3A-8228-4D51-B3DF-A19EFEB8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B747-1996-4E1C-83DA-9C5E6A5A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D361-64BF-4A0B-BBB6-A029413E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9BDE-967F-4AB7-98C3-5540B6AC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502-4BA2-4963-91CA-D579D2B0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B9B6-6DAF-4EE3-BF60-3FEDE458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1600-7636-49D5-9720-D983C53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8181-9F3F-4626-903C-5F6E287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6362-61B5-4CE8-BA48-F03CFF46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2E00-315A-4736-840E-60249914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3F7-DA0E-4BEF-848E-AA8C2EF1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422-13A4-4224-88D0-748C51E7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898-DF44-4F9F-BB0F-DE044A85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20E-8407-4ADB-BC69-282FA46E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87F-951D-49E3-A877-6C92B33E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E86-A24E-45AE-948A-F45939A1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BA1-F3DF-415C-AB1A-AC2FCE4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908B-B0A3-477C-808D-D9E7EE6FF95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1771-30F6-486D-B680-7D7D551747C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25000" y="996480"/>
            <a:ext cx="738036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3.02D HTML Overview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074240" y="4328640"/>
            <a:ext cx="8069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02 Develop webpag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(Note to instructor:  HTML tags are in red only to differentiate from regular text.)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reating and Saving HTML Fi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any text editor to enter HTML code and create a web pag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ve the file as an HTML file using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.htm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s the extens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old browsers will display files with the .htm extension but the latest standard requires .htm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 a web browser and open the file to display the page.  (Check the page out with several different browsers to see how each browser displays the HTML file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TML Ta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7360" y="1986120"/>
            <a:ext cx="4116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urpose of Tag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fine and describe text, graphics, hypertext links, and other multimedia elements found on webpag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ll the browser how to display the documen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viewing th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urce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a webpage, the user can see the HTML tags used to display the pag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2880" y="4677840"/>
            <a:ext cx="3810240" cy="17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view a webpage’s source cod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browser window, Click on the View menu and choose Sourc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rcRect l="10155" t="0" r="5467" b="20835"/>
          <a:stretch/>
        </p:blipFill>
        <p:spPr>
          <a:xfrm>
            <a:off x="4754520" y="1568520"/>
            <a:ext cx="4191120" cy="2949480"/>
          </a:xfrm>
          <a:prstGeom prst="rect">
            <a:avLst/>
          </a:prstGeom>
          <a:ln w="3240">
            <a:solidFill>
              <a:srgbClr val="e3e2c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ing HTML Ta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8440" y="2049120"/>
            <a:ext cx="841536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HTML tag begins with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racter and ends with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ract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tween these characters is the actual tag name, such a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hea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body&gt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an example of a correct ta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gs should appear in pairs, with an opening ta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html&gt;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a closing ta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&lt;/html&gt;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only difference between the opening and closing tag i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sed in the closing ta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ing HTML Ta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77800" y="1964880"/>
            <a:ext cx="383544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entered between the HTML tags is formatted with the code specified by those tag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&lt;h1&gt;Welcome to my website!&lt;/h1&gt;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browser will turn on formatting at heading level 1 to display the text and then turn it off at the end of that text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rcRect l="0" t="0" r="44535" b="32293"/>
          <a:stretch/>
        </p:blipFill>
        <p:spPr>
          <a:xfrm>
            <a:off x="4419720" y="1706400"/>
            <a:ext cx="4724280" cy="43261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2362320" y="63133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Note the source code showing the 6 levels of the heading tag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Line 8"/>
          <p:cNvSpPr/>
          <p:nvPr/>
        </p:nvSpPr>
        <p:spPr>
          <a:xfrm flipV="1">
            <a:off x="4618080" y="5663880"/>
            <a:ext cx="0" cy="571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6" descr="cell-phone-nokia"/>
          <p:cNvPicPr/>
          <p:nvPr/>
        </p:nvPicPr>
        <p:blipFill>
          <a:blip r:embed="rId1"/>
          <a:stretch/>
        </p:blipFill>
        <p:spPr>
          <a:xfrm>
            <a:off x="5707080" y="5121360"/>
            <a:ext cx="1461960" cy="1461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TML vs. XHTM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9200" y="2028600"/>
            <a:ext cx="4619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3C created XHTML as an extended version of HTML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HTML requires some modification of the old HTML standar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tags must be in lowercas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tags must have a closing tag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tags must be properly nested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html&gt;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ag must be the root tag for every documen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35600" y="2081160"/>
            <a:ext cx="4006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le many old browsers can display “old” HTML, newer ones rely on the current standar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member, web pages are accessed from desktop computers, mobile phones and handheld devices—all using a variety of browser technologies!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4" name="Picture 8" descr="handheld%2520uploader"/>
          <p:cNvPicPr/>
          <p:nvPr/>
        </p:nvPicPr>
        <p:blipFill>
          <a:blip r:embed="rId2"/>
          <a:stretch/>
        </p:blipFill>
        <p:spPr>
          <a:xfrm rot="418200">
            <a:off x="7230960" y="5019480"/>
            <a:ext cx="166392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esting HTML Tag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5400" y="4032000"/>
            <a:ext cx="819144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Nesting refers to the order in which tags are opened and closed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nter the closing tags in the reverse order from the opening tags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losing tags in a different order than they were opened may keep the browser from displaying the page as intended by the author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7" name="Picture 20" descr="nesting"/>
          <p:cNvPicPr/>
          <p:nvPr/>
        </p:nvPicPr>
        <p:blipFill>
          <a:blip r:embed="rId1"/>
          <a:srcRect l="10609" t="0" r="10938" b="0"/>
          <a:stretch/>
        </p:blipFill>
        <p:spPr>
          <a:xfrm>
            <a:off x="1641600" y="2181240"/>
            <a:ext cx="60656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"/>
          <p:cNvPicPr/>
          <p:nvPr/>
        </p:nvPicPr>
        <p:blipFill>
          <a:blip r:embed="rId1"/>
          <a:srcRect l="0" t="0" r="51482" b="66171"/>
          <a:stretch/>
        </p:blipFill>
        <p:spPr>
          <a:xfrm>
            <a:off x="5092560" y="4881600"/>
            <a:ext cx="3332160" cy="17431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dding Attributes to Tag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4360" y="2031840"/>
            <a:ext cx="8223120" cy="32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ributes provide additional information about tags and control how the tag will be interpreted by the browser. Exampl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nchor tag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a&gt;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defines an anchor that converts text or an image into a hyperlink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a href=“http://www.unc.edu”&gt;University of North Carolina&lt;/a&gt;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ref is the attribute instructing the browser to set the text between the anchor tags as a hyperlink to the specified web addres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ules for Using Attribu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84160" y="221148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ttributes are entered inside the opening tag but not in the closing tag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ttributes are keyed in name/value pairs. Syntax: name=”value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The attribute should have an equal symbol followed by the value or setting for the attribute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marL="347400" indent="-34740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ttribute values should be enclosed inside quotation marks.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1523880" y="762120"/>
            <a:ext cx="737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ing Multiple Attribu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065240" y="3340080"/>
            <a:ext cx="3871800" cy="26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ace once between multiple attribu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our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lls the browser where the image is located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lt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ttribu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structs the browser to display alternative text if the image file will not load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5" name="Picture 8" descr=""/>
          <p:cNvPicPr/>
          <p:nvPr/>
        </p:nvPicPr>
        <p:blipFill>
          <a:blip r:embed="rId1"/>
          <a:srcRect l="0" t="0" r="57016" b="57164"/>
          <a:stretch/>
        </p:blipFill>
        <p:spPr>
          <a:xfrm>
            <a:off x="5425920" y="3398760"/>
            <a:ext cx="3022920" cy="2259000"/>
          </a:xfrm>
          <a:prstGeom prst="rect">
            <a:avLst/>
          </a:prstGeom>
          <a:ln w="3240">
            <a:solidFill>
              <a:srgbClr val="003366"/>
            </a:solidFill>
            <a:miter/>
          </a:ln>
        </p:spPr>
      </p:pic>
      <p:sp>
        <p:nvSpPr>
          <p:cNvPr id="326" name="Text Box 9"/>
          <p:cNvSpPr/>
          <p:nvPr/>
        </p:nvSpPr>
        <p:spPr>
          <a:xfrm>
            <a:off x="177840" y="6435720"/>
            <a:ext cx="89661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 a comprehensive list of tags and attributes visit www.w3schools.com/html/html_reference.as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1352520" y="2171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Unicode MS"/>
              </a:rPr>
              <a:t>Exampl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Unicode MS"/>
              </a:rPr>
              <a:t>&lt;img src=“image.gif” alt=“smiley face image” /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6:08:45Z</dcterms:created>
  <dc:creator>Lee O'Neal</dc:creator>
  <dc:description/>
  <dc:language>en-US</dc:language>
  <cp:lastModifiedBy>ycsadmin</cp:lastModifiedBy>
  <dcterms:modified xsi:type="dcterms:W3CDTF">2011-07-01T18:49:11Z</dcterms:modified>
  <cp:revision>46</cp:revision>
  <dc:subject/>
  <dc:title>Website Development</dc:title>
</cp:coreProperties>
</file>